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519-1B17-4E20-BA8A-490BAFE3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817-527D-4DA3-8FB7-F06480A6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913-5F66-4607-9785-9086E660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283-B8C8-43F8-A673-FEF203A6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F52-CBB6-4657-91AF-BBB38031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FA5-B94B-4569-9514-AC47F8F6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F26-F1CB-4D23-9C10-E14AA99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25B-1D7E-4212-B77B-AF23C7F7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D34-FD89-466F-B65D-2788A3A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AFC-B271-4058-B396-A8B60494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720-B086-4A37-9A80-8E200876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6CE-F6FC-422D-9535-467ACB98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12F9-0B32-4E98-97A2-E56F8AA79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627" t="0" r="11874" b="5999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31:42Z</dcterms:created>
  <dc:creator>za04499</dc:creator>
  <dc:description/>
  <dc:language>en-US</dc:language>
  <cp:lastModifiedBy>za04499</cp:lastModifiedBy>
  <dcterms:modified xsi:type="dcterms:W3CDTF">2009-02-25T15:33:29Z</dcterms:modified>
  <cp:revision>2</cp:revision>
  <dc:subject/>
  <dc:title>Slide 1</dc:title>
</cp:coreProperties>
</file>